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4D6B-3C68-4331-B3C2-73A9702C0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00D4-859B-47B0-8182-C2B898D71E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2C59-427D-4D74-A3BF-AFA4BA9445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9FF0-B41C-42E2-B8F8-CB450028D4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4684-FBFB-4BE1-A31F-54B06C96BA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E3DA-1F7D-47E0-B87E-503CEB08FF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344A-4651-4B9E-831E-2AA222EE93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EC9A-AC84-4646-B3BB-EAB3AB6927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2690-BB97-44A2-AC41-DE1C09FD5F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0CE-3E90-486B-A7FA-8E73D471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314-E456-4588-A0CD-F81E2ABB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CF3-2BB7-4931-88AF-9ED0BDC7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2BB-1AF1-4581-9BF0-9A8978DD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AAB-AA79-4DD7-9D66-3C552AD9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CEB-2F22-4D21-816F-0AAD9CD0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EDD-58FD-4B72-8CF9-F7C64822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0A7-DE79-4D45-B930-69A53E17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40E-C554-41F8-97AD-8E3CD927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151-AE71-41D4-9C17-E83020D5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018-3866-4E89-8CF8-B86EB541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E0F-D3A6-4144-BB01-3747A871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3209-A95B-4869-927B-12C4D8B2E3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Efectos de la Educación  Centrada en el Alumn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. Moises F. Salin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entral Connecticut State Univers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oblema Auténtic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219320" y="2209680"/>
            <a:ext cx="7086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imado Super Nanny: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 hijo de 3 años de edad, Rob, suele ser un buen chico. Sin embargo, últimamente, cada vez que quiere algo y decimos que no, ha estado haciendo rabietas tremendas. Parece estar especialmente consciente del hecho de que hay otras personas presentes y se pone peor si tenemos invitados en casa o nos encontramos en un lugar público, como un restaurante o un supermercado. Hemos tratado de castigarlo, dándole los tiempos de espera, haciendo caso omiso de él. Nada funciona, él sigue llorando y gritando por horas a veces. Estoy en el final de mi cuerda. ¿Qué puedo hacer?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tentamente, Ja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838080" y="1523880"/>
            <a:ext cx="79250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aptado de Brown et al. (199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halkboard"/>
              </a:rPr>
              <a:t>Problemas Auténtico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halkboard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blemas Académ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Ill Problemas definid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lemas bien defin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ontexto Dependien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exto Independ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oluciones múltip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ución ú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No correcto/incorrec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orrecto-incorre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iempo límite es flexib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iempo límite 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íg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onsulta fuentes/expert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Énfasis en trabajo individu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studi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16 estudian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to  a 6to  grad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 estad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ticipant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2590920"/>
          <a:ext cx="7772400" cy="11127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a1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or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a1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-Minor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a1b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Centrado en el alum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0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RADI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strumento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2" name="Object 5"/>
          <p:cNvGraphicFramePr/>
          <p:nvPr/>
        </p:nvGraphicFramePr>
        <p:xfrm>
          <a:off x="1147680" y="2286000"/>
          <a:ext cx="9526680" cy="367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2286000"/>
                    <a:ext cx="9526680" cy="36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6"/>
          <p:cNvSpPr/>
          <p:nvPr/>
        </p:nvSpPr>
        <p:spPr>
          <a:xfrm>
            <a:off x="1565280" y="121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fectos en Rendimient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828800" y="2182680"/>
            <a:ext cx="5562720" cy="373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fectos en Evalución de prácticas centradas en el alum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685800" y="1954080"/>
          <a:ext cx="7696080" cy="42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54080"/>
                    <a:ext cx="769608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Oval 1"/>
          <p:cNvSpPr/>
          <p:nvPr/>
        </p:nvSpPr>
        <p:spPr>
          <a:xfrm>
            <a:off x="2209680" y="26668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297180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373392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525780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601992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670572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762012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7848720" y="39625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ignific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fecto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nventario de percepción Multitalento Khatena-Morse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1752480" y="2057400"/>
          <a:ext cx="5639040" cy="40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63904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Oval 5"/>
          <p:cNvSpPr/>
          <p:nvPr/>
        </p:nvSpPr>
        <p:spPr>
          <a:xfrm>
            <a:off x="5257800" y="2971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ffects on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scala de ambiente del aul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1604880" y="1676520"/>
          <a:ext cx="6008760" cy="43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1676520"/>
                    <a:ext cx="6008760" cy="430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5" name="Oval 5"/>
          <p:cNvSpPr/>
          <p:nvPr/>
        </p:nvSpPr>
        <p:spPr>
          <a:xfrm>
            <a:off x="327672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579132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ffects on Escala universalidad-diversidad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Miville-Guzma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1600200" y="2514600"/>
          <a:ext cx="6019920" cy="34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14600"/>
                    <a:ext cx="601992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Oval 5"/>
          <p:cNvSpPr/>
          <p:nvPr/>
        </p:nvSpPr>
        <p:spPr>
          <a:xfrm>
            <a:off x="3429000" y="3276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5562720" y="3276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!8thclassroom"/>
          <p:cNvPicPr/>
          <p:nvPr/>
        </p:nvPicPr>
        <p:blipFill>
          <a:blip r:embed="rId1"/>
          <a:stretch/>
        </p:blipFill>
        <p:spPr>
          <a:xfrm>
            <a:off x="1981080" y="457200"/>
            <a:ext cx="525780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nclusion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otencial para cerrar la brecha académica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umento en la apreciación de la tolerancia y la diversidad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umento de las habilidades relacionadas con el crecimiento y desarrollo persona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ey del antiguo engañador de satanás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1647)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ld deluder Satan La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6000"/>
          </a:bodyPr>
          <a:p>
            <a:pPr marL="329040" indent="-3290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Siendo un proyecto jefe de ese antiguo engañador, Satanás, para alejar a los hombres del conocimiento de las Escrituras, como en tiempos pasados ​​se mantenían alejados de una lengua desconocida, por lo que en estos tiempos después persuadiendo del uso de las lenguas, que así por lo menos el verdadero sentido y significado del Original, podría  ser empañado por los brillos falsos de Santos-aparentes y que El Aprendizaje no puede ser enterrado en las tumbas de nuestros antepasados de la Iglesia y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Commonwealth, el Señor ayuda a nuestros esfuerzos: por lo que se ordenó por este Tribunal.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Por consiguiente, se ordenó que cada municipio en esta jurisdicción, después de que el Señor les ha aumentado el número los jefes de familia hasta cincuenta, luego de ello inmediatamente a nombrar a uno dentro de su ciudad para enseñar todos los niños, como podrá recurrir a él para leer y escribir, cuyo salario se pagará, bien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por los padres o maestros de esos niños, o por los habitantes en general, a modo de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la oferta, como la mayor parte de los que ordenan los prudentes de la Ciudad nombrará.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Siempre que los que mandan a sus hijos no sea oprimido por tener que pagar mucho más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entonces se puede hacer que se enseña en otras ciudades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371600" y="2286000"/>
            <a:ext cx="70102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e4232"/>
                </a:solidFill>
                <a:latin typeface="Arial"/>
              </a:rPr>
              <a:t>La investigación muestra que el 90% de los conocimientos adquiridos en la escuela se pierde: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26"/>
          <p:cNvSpPr/>
          <p:nvPr/>
        </p:nvSpPr>
        <p:spPr>
          <a:xfrm>
            <a:off x="121932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028"/>
          <p:cNvSpPr/>
          <p:nvPr/>
        </p:nvSpPr>
        <p:spPr>
          <a:xfrm>
            <a:off x="762120" y="1676520"/>
            <a:ext cx="7772400" cy="36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23. </a:t>
            </a:r>
            <a:r>
              <a:rPr b="0" lang="es-ES" sz="2400" spc="-1" strike="noStrike">
                <a:solidFill>
                  <a:srgbClr val="2e4232"/>
                </a:solidFill>
                <a:latin typeface="Arial"/>
              </a:rPr>
              <a:t>¿Cuál es la ecuación de la recta que tiene una pendiente de 4 y pasa por el punto (3, -10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y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= 4 </a:t>
            </a: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x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−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y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= 4 </a:t>
            </a: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x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+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y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= 4 </a:t>
            </a: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x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− 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y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= 4 </a:t>
            </a:r>
            <a:r>
              <a:rPr b="0" i="1" lang="en-US" sz="2400" spc="-1" strike="noStrike">
                <a:solidFill>
                  <a:srgbClr val="2e4232"/>
                </a:solidFill>
                <a:latin typeface="American Typewriter"/>
              </a:rPr>
              <a:t>x 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+ 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e4232"/>
                </a:solidFill>
                <a:latin typeface="Arial"/>
              </a:rPr>
              <a:t>Prueba Estándar de California - 9 º Gr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676520" y="19810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62120" y="1676520"/>
            <a:ext cx="7772400" cy="40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10. </a:t>
            </a:r>
            <a:r>
              <a:rPr b="0" lang="es-ES" sz="2400" spc="-1" strike="noStrike">
                <a:solidFill>
                  <a:srgbClr val="2e4232"/>
                </a:solidFill>
                <a:latin typeface="Arial"/>
              </a:rPr>
              <a:t>¿Cuál de los siguientes factores llevó de manera mas inmediata a la convocatoria de los Estados-Generales franceses en mayo de 1789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e4232"/>
                </a:solidFill>
                <a:latin typeface="Arial"/>
              </a:rPr>
              <a:t>El conflicto entre la burguesía y el campesin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El apoyo de la Iglesia Católica Rom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e4232"/>
                </a:solidFill>
                <a:latin typeface="American Typewriter"/>
              </a:rPr>
              <a:t>Agitación</a:t>
            </a: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 d</a:t>
            </a:r>
            <a:r>
              <a:rPr b="0" lang="es-ES" sz="2400" spc="-1" strike="noStrike">
                <a:solidFill>
                  <a:srgbClr val="2e4232"/>
                </a:solidFill>
                <a:latin typeface="Arial"/>
              </a:rPr>
              <a:t>el campesin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4232"/>
                </a:solidFill>
                <a:latin typeface="American Typewriter"/>
              </a:rPr>
              <a:t>Bancarrota del gobierno franc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2e4232"/>
              </a:buClr>
              <a:buFont typeface="American Typewrite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4232"/>
                </a:solidFill>
                <a:latin typeface="American Typewriter"/>
              </a:rPr>
              <a:t>Prueba de Historia Mundial del College Bo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Marker Felt"/>
              </a:rPr>
              <a:t>Principios del Aprendizaje Centrado en el estudiante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Marker Felt"/>
              </a:rPr>
              <a:t>(McCombs &amp; Whisler, 1997, p. 10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33520" y="2743200"/>
            <a:ext cx="8305560" cy="3142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ección con respecto a sus propios proyectos y tareas calificadas, podrá seleccionar las áreas que son personalmente relev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tmo Individual - Flexibilidad de tiem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ostrar sus conocimientos de una forma única - El dominio, la retroalimentación, la toma de riesg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prometido y participar en actividades de aprendizaje individuales y de grupo;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yor responsabilidad para el proceso de aprendizaje, por ejemplo, la asistencia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fine su comprensión mediante el uso de habilidades de pensamiento crític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¿Cómo demostrar el conocimiento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1" name="Picture 2" descr="http://homepage.mac.com/dmhart/WarArt/Picasso/Guernica/Guernica.JPG"/>
          <p:cNvPicPr/>
          <p:nvPr/>
        </p:nvPicPr>
        <p:blipFill>
          <a:blip r:embed="rId1"/>
          <a:stretch/>
        </p:blipFill>
        <p:spPr>
          <a:xfrm>
            <a:off x="380880" y="2057400"/>
            <a:ext cx="8458200" cy="393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oblema Académic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066680" y="2438280"/>
            <a:ext cx="7467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da vez que Jamie lleva a su hijo de 3 años de edad, Rob al supermercado, se pone a llorar y no para hasta que tiene una barra de chocolate. De acuerdo con la teoría de Skinner del condicionamiento operante, el llanto es probable que aumente, porque el caramelo sirve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Un reforzador positiv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El estímulo incondicionad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Una respuesta condicionada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) Un estímulo condicio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1:01:04Z</dcterms:created>
  <dc:creator>CCSU</dc:creator>
  <dc:description/>
  <dc:language>en-US</dc:language>
  <cp:lastModifiedBy>Melissa Henriquez</cp:lastModifiedBy>
  <cp:lastPrinted>2006-10-18T13:54:10Z</cp:lastPrinted>
  <dcterms:modified xsi:type="dcterms:W3CDTF">2012-04-07T14:48:15Z</dcterms:modified>
  <cp:revision>26</cp:revision>
  <dc:subject/>
  <dc:title>PowerPoint Presentation</dc:title>
</cp:coreProperties>
</file>